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FD7-6057-45C0-854E-EAD4AFDD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50D-3E67-4FCE-8641-6739455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31D-195F-4096-BEEA-7E0324AA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24B-4A79-4A0E-9CDD-0366B03D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318-8BF6-4A71-8476-7A7E9961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9C3-4845-4EB0-8B98-ADBEF9B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54E-04A8-4757-A205-66EE86F1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79B-C6CA-4E5B-8273-4D88273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CF1-4404-43A9-B1F8-FC85EA21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74A-75A3-40C5-BA06-F9B29B0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5C8-1D4F-4B97-B3AA-D8D9609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B63-3383-4BFD-9DC3-F5B8DFF8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660-F0BF-487B-A483-65F75699A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50" t="745" r="0" b="0"/>
          <a:stretch/>
        </p:blipFill>
        <p:spPr>
          <a:xfrm>
            <a:off x="533520" y="596880"/>
            <a:ext cx="8146800" cy="5708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886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40" t="951" r="0" b="0"/>
          <a:stretch/>
        </p:blipFill>
        <p:spPr>
          <a:xfrm>
            <a:off x="515880" y="569880"/>
            <a:ext cx="8191440" cy="577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66" t="1528" r="0" b="0"/>
          <a:stretch/>
        </p:blipFill>
        <p:spPr>
          <a:xfrm>
            <a:off x="501480" y="609480"/>
            <a:ext cx="8205840" cy="57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8280" y="13716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0" t="984" r="0" b="0"/>
          <a:stretch/>
        </p:blipFill>
        <p:spPr>
          <a:xfrm>
            <a:off x="515880" y="577800"/>
            <a:ext cx="819144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26668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Zeb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66" t="741" r="0" b="0"/>
          <a:stretch/>
        </p:blipFill>
        <p:spPr>
          <a:xfrm>
            <a:off x="501480" y="582480"/>
            <a:ext cx="8205840" cy="573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2590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n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766" t="988" r="0" b="0"/>
          <a:stretch/>
        </p:blipFill>
        <p:spPr>
          <a:xfrm>
            <a:off x="501480" y="590400"/>
            <a:ext cx="8205840" cy="573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27" t="662" r="0" b="0"/>
          <a:stretch/>
        </p:blipFill>
        <p:spPr>
          <a:xfrm>
            <a:off x="533520" y="585720"/>
            <a:ext cx="81532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914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697" t="0" r="0" b="0"/>
          <a:stretch/>
        </p:blipFill>
        <p:spPr>
          <a:xfrm>
            <a:off x="520560" y="533520"/>
            <a:ext cx="8159760" cy="579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angaro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600" t="738" r="0" b="875"/>
          <a:stretch/>
        </p:blipFill>
        <p:spPr>
          <a:xfrm>
            <a:off x="512640" y="569880"/>
            <a:ext cx="8167680" cy="571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438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154" t="848" r="0" b="0"/>
          <a:stretch/>
        </p:blipFill>
        <p:spPr>
          <a:xfrm>
            <a:off x="533520" y="569880"/>
            <a:ext cx="8173800" cy="576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lph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1" t="738" r="0" b="1420"/>
          <a:stretch/>
        </p:blipFill>
        <p:spPr>
          <a:xfrm>
            <a:off x="527040" y="569880"/>
            <a:ext cx="8153280" cy="567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850" t="738" r="0" b="738"/>
          <a:stretch/>
        </p:blipFill>
        <p:spPr>
          <a:xfrm>
            <a:off x="533520" y="569880"/>
            <a:ext cx="8146800" cy="571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2362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66" t="736" r="0" b="0"/>
          <a:stretch/>
        </p:blipFill>
        <p:spPr>
          <a:xfrm>
            <a:off x="501480" y="563400"/>
            <a:ext cx="8205840" cy="577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22860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940" t="979" r="0" b="0"/>
          <a:stretch/>
        </p:blipFill>
        <p:spPr>
          <a:xfrm>
            <a:off x="515880" y="565200"/>
            <a:ext cx="8191440" cy="57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2590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iraf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22" t="988" r="0" b="0"/>
          <a:stretch/>
        </p:blipFill>
        <p:spPr>
          <a:xfrm>
            <a:off x="473040" y="590400"/>
            <a:ext cx="8234280" cy="573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286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850" t="600" r="0" b="1553"/>
          <a:stretch/>
        </p:blipFill>
        <p:spPr>
          <a:xfrm>
            <a:off x="533520" y="555480"/>
            <a:ext cx="8146800" cy="569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5181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0:30:18Z</dcterms:created>
  <dc:creator>User</dc:creator>
  <dc:description/>
  <dc:language>en-US</dc:language>
  <cp:lastModifiedBy> </cp:lastModifiedBy>
  <dcterms:modified xsi:type="dcterms:W3CDTF">2009-02-25T11:58:14Z</dcterms:modified>
  <cp:revision>3</cp:revision>
  <dc:subject/>
  <dc:title>Slide 1</dc:title>
</cp:coreProperties>
</file>